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6A4-8DC6-4B47-8EA5-1C7AEC34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E7C-6A6C-4B0D-9ABE-BB0891B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5C4-A174-446D-938B-983D17DF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D70-3636-4777-9A0A-6EE12687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226-8EFF-4985-AC32-47F7654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795-099F-426E-B9C3-4F187284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FFC-22CD-41D7-A71C-802EBC8E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85E-19D6-484E-9E56-495561AF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9A9-91DA-4688-AC5D-907FA03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69A-8C8E-48EF-BC2F-384476C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599-BD71-4CA2-8273-83A2665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0B4-2C6E-497A-9A0E-06D72B6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F1D1-E5E4-4EA3-8B70-177F3AD3B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59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lished slaver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3880" y="2057400"/>
            <a:ext cx="5943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3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1143000"/>
            <a:ext cx="75438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 prev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mposing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cessive bail or fin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4400" y="1295280"/>
            <a:ext cx="73152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arantees the right to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edy and public tri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6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 forb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to deprive lif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berty, or property wit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e process of law?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523880" y="20574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rong again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cie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22096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220968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rong again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 based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rrent standards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s of the peo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52480" y="1828800"/>
            <a:ext cx="5486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owe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ide a c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5120" y="22096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risdi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68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octrine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s lower cou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ollow establish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se la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182880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i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676520" y="2209680"/>
            <a:ext cx="57909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cann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gra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o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ws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43000" y="1828800"/>
            <a:ext cx="7162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l nam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ternet system.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2438280"/>
            <a:ext cx="6477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PA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1523880"/>
            <a:ext cx="7162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 t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ed electronic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47920" y="15238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-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133720"/>
            <a:ext cx="7467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actice of send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requested bulk e-mailin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2133720"/>
            <a:ext cx="52578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amm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52388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ld Wide We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47920" y="2362320"/>
            <a:ext cx="6248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 Berners Le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95280" y="1676520"/>
            <a:ext cx="67820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of first 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s of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tit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66680" y="19810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l of Righ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16765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cument that loosely establish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rst central govern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ting the thirteen stat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38280" y="1676520"/>
            <a:ext cx="4038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ticl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e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680" y="1676520"/>
            <a:ext cx="73915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cument listing Americ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onists’ reasons for wan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ce from England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600200" y="1676520"/>
            <a:ext cx="5791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laratio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1676520"/>
            <a:ext cx="7543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 where feder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v has exclusive rights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fects trade betw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and foreign comme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38280" y="1676520"/>
            <a:ext cx="4038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st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1676520"/>
            <a:ext cx="7620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 where states reta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hority to regulate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 within state’s b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38280" y="1676520"/>
            <a:ext cx="4038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ast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kind of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s disputes fir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66680" y="1295280"/>
            <a:ext cx="72392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828800" y="2057400"/>
            <a:ext cx="5410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66680" y="1447920"/>
            <a:ext cx="6934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ype of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review the dec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lower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828800" y="2133720"/>
            <a:ext cx="5410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ea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1752480"/>
            <a:ext cx="74674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erm me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ing a dispute to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tig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1981080"/>
            <a:ext cx="7620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ype of jurisdi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 trial court would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828800" y="2209680"/>
            <a:ext cx="5410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62120" y="1752480"/>
            <a:ext cx="76197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the two (2) 3rd par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cilitators who can resol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putes before going to cour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diat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bitra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1219320"/>
            <a:ext cx="73152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d of court that he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ses involving you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 under the age of 1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ste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ven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14400" y="13716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d of court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ndles cases involv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,500 or l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 Clai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ircuit court that hea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or criminal case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suits that invol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 more than $25,0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oci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kin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 administ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ty ordina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1600200"/>
            <a:ext cx="5257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ncip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400" y="1600200"/>
            <a:ext cx="7620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kind of cou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ministers will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ates when someone dies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05120" y="1752480"/>
            <a:ext cx="5257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2120" y="3124080"/>
            <a:ext cx="7467480" cy="29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Rights/Benefits entitled to a person by law 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Personal and natural rights guaranteed to U.S. citizen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aliz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1523880"/>
            <a:ext cx="72388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gal Righ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vil Righ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808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mend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tro 2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w'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ste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pecializ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r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477120"/>
            <a:ext cx="30456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1523880"/>
            <a:ext cx="71625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arantees U.S. citize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edom of speech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essica Spangenberg</cp:lastModifiedBy>
  <dcterms:modified xsi:type="dcterms:W3CDTF">2009-10-22T23:55:38Z</dcterms:modified>
  <cp:revision>54</cp:revision>
  <dc:subject/>
  <dc:title>No Slide Title</dc:title>
</cp:coreProperties>
</file>